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AF11-C892-4CF9-8F3B-2C978182E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B073-98C5-4480-80FC-4731458D0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menopausemoxie.com/wp-content/uploads/2013/07/estrogen-therapy-and-menopaus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E45A-AA90-458D-B313-AF3397241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3C0C-C4B9-48A4-AB5C-9184AC2E3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getceusnow.com/human_sexuality/penis.htm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s://figures.boundless.com/19750/large/figure-43-03-05.j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B150-85FF-434E-A641-47FA6B7DB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54DB-5673-4371-A16C-098C55F09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kvhs.nbed.nb.ca/gallant/biology/biolog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97BA-28C4-4F86-975B-881807783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5D66-CEEB-4F86-AB36-9C5BBF7AF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webmd.com/infertility-and-reproduction/guide/female-reproductive-system-overview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s://upload.wikimedia.org/wikipedia/commons/thumb/4/44/Gray5.svg/260px-Gray5.svg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E3EF-FE68-4ADA-BCFD-EC261914B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1744-2691-4F23-BC0D-97BF987F7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CFF8-DBA2-4578-BCDD-D1124296C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kvhs.nbed.nb.ca/gallant/biology/biology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38D7-09B6-4BD0-976C-E572AA371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omeostasisinreproduction.wikispaces.com/Oogenesis+and+Ov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www.biologydiscussion.com/wp-content/uploads/2013/08/3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658D-70AC-4D38-B6A9-E0921C38F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i2.cdn.turner.com/cnnnext/dam/assets/130904025408-dnt-ks-selling-pregnancy-tests-00005517-story-top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0E52-E830-4625-AA15-34DA7ECB8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8F62-864B-4D6F-8D70-CF2E423D7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9B9C-B9EF-4B59-BD7A-DDCB108D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C344-05B0-4C02-80A7-9C14DB325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CD94-F592-4A62-A811-F1B4E3764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27EF-C666-4FA2-BD5A-E14CBAA1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1377-1D98-4416-965A-70B5BE56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7B17-536A-4F0B-8DD4-ED8BE4A8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EBCF-B3BB-433F-9671-F902FA72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DE9A-2990-4A8E-ABA4-524E2B25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4A9C-7342-415D-B5F8-AAFB38D4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2F24-8556-4110-91A4-E97D8C6E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C7D3-F6C6-4324-8C0E-5A8AD312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9BB7-D845-4327-A6B2-BBB64FBDF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ctive 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opa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tion in estr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de effects can be reduced by hormone replacement therapy (H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Content Placeholder 5" descr="estrogen-therapy-and-menopause.jpg"/>
          <p:cNvPicPr/>
          <p:nvPr/>
        </p:nvPicPr>
        <p:blipFill>
          <a:blip r:embed="rId1"/>
          <a:srcRect l="3699" t="0" r="3699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le Reproductiv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hs22"/>
          <p:cNvPicPr/>
          <p:nvPr/>
        </p:nvPicPr>
        <p:blipFill>
          <a:blip r:embed="rId1"/>
          <a:stretch/>
        </p:blipFill>
        <p:spPr>
          <a:xfrm>
            <a:off x="2325600" y="1981080"/>
            <a:ext cx="4491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rmatoge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s 9-10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average, testes produce 130 million fertile sperm each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Content Placeholder 7" descr="figure-43-03-05.jpe.jpeg"/>
          <p:cNvPicPr/>
          <p:nvPr/>
        </p:nvPicPr>
        <p:blipFill>
          <a:blip r:embed="rId1"/>
          <a:srcRect l="-14839" t="0" r="-14839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male_hormone"/>
          <p:cNvPicPr/>
          <p:nvPr/>
        </p:nvPicPr>
        <p:blipFill>
          <a:blip r:embed="rId1"/>
          <a:stretch/>
        </p:blipFill>
        <p:spPr>
          <a:xfrm>
            <a:off x="1833480" y="609480"/>
            <a:ext cx="54770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x 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roge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mostly male hormones (e.g., testoster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roge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.g. estradi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est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.g. progester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roid 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are produced in different proportions by both males and fe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male Reproductiv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your-guide-female-reproductive-system_Female_Reproductive_System"/>
          <p:cNvPicPr/>
          <p:nvPr/>
        </p:nvPicPr>
        <p:blipFill>
          <a:blip r:embed="rId1"/>
          <a:stretch/>
        </p:blipFill>
        <p:spPr>
          <a:xfrm>
            <a:off x="2651040" y="1981080"/>
            <a:ext cx="384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ge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ary releases oocytes (immature eg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ulation causes completion of meiosis I &amp; fertilization causes completion of meiosis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Content Placeholder 5" descr="260px-Gray5.svg.png"/>
          <p:cNvPicPr/>
          <p:nvPr/>
        </p:nvPicPr>
        <p:blipFill>
          <a:blip r:embed="rId1"/>
          <a:srcRect l="-3940" t="0" r="-3940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Menstruation Cycle"/>
          <p:cNvPicPr/>
          <p:nvPr/>
        </p:nvPicPr>
        <p:blipFill>
          <a:blip r:embed="rId1"/>
          <a:stretch/>
        </p:blipFill>
        <p:spPr>
          <a:xfrm>
            <a:off x="2573280" y="609480"/>
            <a:ext cx="3997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female_hormone"/>
          <p:cNvPicPr/>
          <p:nvPr/>
        </p:nvPicPr>
        <p:blipFill>
          <a:blip r:embed="rId1"/>
          <a:stretch/>
        </p:blipFill>
        <p:spPr>
          <a:xfrm>
            <a:off x="2654280" y="609480"/>
            <a:ext cx="383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c7_46_11_oogenesis"/>
          <p:cNvPicPr/>
          <p:nvPr/>
        </p:nvPicPr>
        <p:blipFill>
          <a:blip r:embed="rId1"/>
          <a:stretch/>
        </p:blipFill>
        <p:spPr>
          <a:xfrm>
            <a:off x="1528920" y="609480"/>
            <a:ext cx="6084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rm &amp; egg plasma membranes fuse &amp; sperm releases nitric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egg to release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reventing other sperm from en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Content Placeholder 8" descr="32.jpg"/>
          <p:cNvPicPr/>
          <p:nvPr/>
        </p:nvPicPr>
        <p:blipFill>
          <a:blip r:embed="rId1"/>
          <a:srcRect l="17007" t="0" r="17007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gna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ryo produces human chorionic gonadotropin (hC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G keeps corpus luteum from breaking down &amp; suppresses mother’s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Content Placeholder 4" descr="130904025408-dnt-ks-selling-pregnancy-tests-00005517-story-top.jpg"/>
          <p:cNvPicPr/>
          <p:nvPr/>
        </p:nvPicPr>
        <p:blipFill>
          <a:blip r:embed="rId1"/>
          <a:srcRect l="0" t="-45995" r="0" b="-45995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16:29:18Z</dcterms:created>
  <dc:creator>rubina khan</dc:creator>
  <dc:description/>
  <dc:language>en-US</dc:language>
  <cp:lastModifiedBy>rubina khan</cp:lastModifiedBy>
  <dcterms:modified xsi:type="dcterms:W3CDTF">2017-05-05T14:59:36Z</dcterms:modified>
  <cp:revision>157</cp:revision>
  <dc:subject/>
  <dc:title>Hormones that Affect Blood Sugar  &amp; Reproductive Hormones</dc:title>
</cp:coreProperties>
</file>